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C52-7F0C-48C0-A3B9-DE1B1EC6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FE0-FE25-4773-8E7A-6BE7549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D5226-5B4C-4B81-847C-AFB28DE9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23E00-4289-458A-91B8-ECFB671E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E57D4-DD92-473A-94EA-FA2137D8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4A4D8-F97B-4E4B-9AE0-897EEE0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F4DF9-550D-48A0-A3DE-43232B7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252F0-2CC4-4F21-80EC-520F77E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687CE-7B73-4C9F-A7DE-8F1E8E0E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DCF9B-C8D5-4F31-A9E8-85A7C17F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73C00-1562-4E69-8EF2-A6A22D9E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09E98-FE2D-471E-BF66-2C0D4297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9DF-1B69-4832-B1F7-06174E9B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14E6A-7F63-42D6-B554-0B4E77DB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91CC1-415E-47F3-8C55-4156B8F2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0D471-B72E-4736-AF69-95014B72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CCDE1-FDF5-479C-9169-E311EE76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7097E-DDAF-4FEC-A437-7B81BD05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7CFB9-510D-41BF-90BF-C8C5422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87A6F-7666-4A05-9380-7D0BF3C3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92249-8042-4CE9-8F32-97C1BB5E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334AD-3DDA-4D0D-8AF1-B6BEA401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FB4DD-0C3C-4CC6-9940-38DF329B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8EB-82A4-4276-9FE7-6FDCD3CF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2A806-71F9-4A61-8B98-75E222E1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80B95-9325-4463-BF24-4A98E878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C9180-DA29-4E33-9335-56998876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52E29-5136-4187-AA27-391E7D0A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0A520-09C8-47BF-B3B5-3E07E38C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F8C1-C1F2-41A4-B8D3-B1C1B031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32BBB-4B36-4745-9FF6-DA2CEBE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01F6B-F65B-48CA-947A-368E751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8855C-60EE-44AA-8D56-45546F2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A1774-21CD-45F4-AF7C-7C1E8F47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0804-DD52-4A60-B8D8-4D1C3F74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9B3D3-2C67-40F2-AC1A-E3FF2C9A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7FE45-5F98-4314-9CED-092E19C3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E3745-28FC-458D-94DE-521BAB04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8F432-E516-4CC2-A4D8-7AFEA68B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0CB53-82ED-4700-B8BD-4864FC12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80083-2DC7-42AF-AECB-25456DCE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93AB4-5001-4905-A959-DD8B37D4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A2DF1-ADDF-4BF3-82BE-F2C32B4B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11F0F-5B23-4663-AD4B-83148E0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DEA35-2B0B-4C2B-BF0B-961B813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5D06-276A-4BE1-A3A8-7FCE740E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F8C99-3023-4CF7-8E55-07FDCE4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33767-05B1-4657-B3EF-EC96794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41726-99FF-48DC-A2C6-3381736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858A2-3666-4589-90C2-3E4B54DF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4111B-F310-4C5F-AB2B-18EDCF6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28451-7C4C-4337-914F-E206C339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5F630-464B-4196-A8C6-578166D0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57AF5-0820-4FD8-A690-F287E61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ED74B-A701-4905-96DE-AFFE2FA7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7B946-BC3F-4FB8-A100-1A80E6DB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7E8D-BD2A-4371-B485-52D24DB5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DD733-B2A0-4799-8A49-E623C93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8CCCF-941C-42CF-9703-E3BAFA5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5696E-056F-4FAF-AD86-FA3A64B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A6DD5-12CE-47AA-BB22-3291C90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5C191-63B1-47CC-8C84-F7F2F6A8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54427-2274-467B-A1B6-4483377D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503EA-B5A9-44D6-A816-5CA94C96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1526C-04AA-4A6A-AECA-9AF282FA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BC2A7-D721-4F42-B219-0BD0BFB7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51F00-BF8E-4453-A54E-D592DD91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FC9A-300C-46D8-BDE3-DA592200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33147-F9A9-4A72-BB3A-ED06FD19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62C1D-8903-4DE3-B3C0-D1395817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4E0C7-9C65-4942-B2DA-75F4FC1F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421A9-53B6-48B4-9C37-2BD789A2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60D0E-6135-46C5-B0CB-6322AE69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2CBA5-CF20-49CA-AA3E-A40C4C0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F71AE-AD32-4EC9-83F5-6011FB84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4F351-5A66-4B4E-B496-DEED87E8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921D1-EDE0-42F6-8FD3-A45502E2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66A7E-8EE5-4875-B715-B732DF24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2642-B2E4-46EE-96B8-56E4515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F8EE3-DAE1-402D-9D72-FBB3558B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7A5F9-1D48-43E0-B275-C91FCEF7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C116E-2BE1-4401-9E94-EFAC1759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6391A-2434-4AE1-9FE8-873E1DBD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73D30-3A99-4F57-BA2D-C8EA006B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76939-ABC5-4015-A8B3-BC4F937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85B90-A31C-4149-BB32-31F8FD2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7EF1F-7507-4D9F-B8C6-8207F9A4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D7C5A-D1F1-44A1-A4CD-5353BB3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F7273-F135-431D-AAF2-AF4C4BCE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B4B3-C917-45C6-A5FA-159E1F85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792FE-0D8F-4709-9DBA-3EAA8E93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6F09F-D09D-4A54-A1F7-CB404ADC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07FC1-0B9D-421F-9FD1-849C6D47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D446E-8A00-4172-872D-34A332A5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2FB81-9B48-4895-B05E-D4EC17F7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8FCA0-DAF1-4DD1-B32F-2FA012B9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889DB-5688-4596-B538-29FEB10D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694A9-41C4-4F27-8FA7-EB4248E3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F4EDF-B101-4A47-B0A3-448FBDB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F9B4A-887B-415A-8508-8D36204D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E4EF-8FBC-4E61-888C-09269AC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FA6B2-1E45-4935-A323-BA1F1A10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D9CDB-2A05-4A94-86DF-C2126F24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61DEE-7A41-4B90-9C2D-B577D3CC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EEB71-4776-4AAC-8147-0EF92257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64186-D7CF-4B61-97FB-1C480985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CCBE0-0B00-4862-A832-5566583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14D3B-516E-4158-B081-80DB2B9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62C1A-7D88-4FD9-99AE-D6E49C12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89DD5-B12B-4153-B82F-722CB974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9D8EE-4C40-478C-BD14-E8837404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165-2F35-4F81-A77C-E2C27306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E5B5-B9EA-460C-9B48-F61C4D1E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81D8D-EA07-4AAD-A9CE-60D61BD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EDE90-BC34-44CC-890F-F7CFAC1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7DC88-7E82-43A4-96FA-AEBC976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480BC-361C-4B89-8151-DFE13578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5B169-7096-4261-8738-08A7EE5A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62D2A-A4DC-43D3-A3EA-55CBB67B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B7238-A477-40F1-8BE7-55736E82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579B6-B475-45E9-90D9-85F92066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BB799-959A-41DD-9AF1-44DEA69B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DCBE4-959B-4F50-B309-EBA953F3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AACE-AD80-477D-B058-1360A69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DEE71-6067-4A1B-B02D-FC442C7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3C653-6C69-42D9-9CBC-AABA74F8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C7F38-6EFB-477F-928E-FDE2C3E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17EAA-D1C5-4BAB-9F77-750A853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2A7A8-6357-4D09-B6E0-56526066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9231C-7996-498C-8BDC-493C8849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4966F-1F0C-4354-9237-72785CE7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6BFD9-7F2C-4B77-97F3-B12F8E12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9111D-E3C6-4461-99BA-95BB3A7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3AB94-2F88-4A5A-AA00-447F0CCE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581E-6F8F-4421-9CB3-23765D2D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1B6F3-9175-49CE-BAAC-CF97757D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3EE23-A145-4E23-9C22-3B51174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D9449-6B46-48D3-BEC7-AF8877D3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6FAFD-C930-4082-BF9C-4DB02DB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A6757-8E90-4D19-A3BD-380AC7ED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2EE25-F265-457B-B8C0-642CB78B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ABFF4-7E4F-44FD-85A0-7DDDA6B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773B46-CF9B-49F3-BFEB-E5DACE87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7A8D2-7DFD-41D3-86D1-FB05B391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3F69E2-D558-4237-9A34-068642B7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0AA4-774D-4E6E-AEA9-DA931716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AE5AFF-7B0A-496B-AF6F-2D6F7784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A8FC37-D1B4-468B-866C-EC6E973B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95BE3-8C57-446D-88FA-8DB92697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76D5C5-38A4-4D10-ADB5-93F1BF03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24C1DF-72E0-4EC8-9F5F-299DCCA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78E8A-F934-4174-8459-071629A3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CA70B-24D0-412F-887C-230826E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9D887-65C3-4EE2-AB29-FA6177B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B6326-9B6F-46BE-8169-BD4D405F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BA72D3-E900-4BA6-A28F-9A90266E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ADA7-11D0-42A3-8ACA-07240AC4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4FE93-9B39-44A3-B2AD-E55C1A03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C5E7F-4D33-460B-9B60-4BEC18F6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3EE7F1-C49E-4391-8DD7-12A395F5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F2A3A1-F674-4D98-A682-5EBB7848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5DF219-D91E-4463-800C-1AC6FDA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702AF-416B-423C-957D-5CA6846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EB309-DB49-4073-A479-5A97C8EA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96059E-4F89-42FB-911A-46BFAA69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E67ADF-BC20-404B-8D5B-7E1360A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E5759-199E-4189-A319-F645CDF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7B6E-D28E-463C-9B97-69F62EA1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558CF1-4617-4B04-A677-7D2C5278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74D411-7E68-4C4E-A2C8-E3A49458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68862-0974-4170-8240-313424A6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EA87C6-9FB3-4280-8A34-85C8E889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BFD2FE-F2FB-43C2-8B2D-0AB0E88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FCBAFA-D984-4491-A94D-F28877D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C28BA3-9401-44B9-8523-19A3A158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592174-1093-4C3C-97E6-358D7488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C6E112-8F77-49AD-B058-5B33C1F7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FA2862-7F60-467F-8EDC-71357383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3610-A35F-4F33-8AEF-A4D3027C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083765-6D02-43DD-AAA2-7CE1E89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61E11-9E87-4FD1-B9FE-644E68BB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663FC0-52D2-471B-82C9-CDCE1E01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AEE5AE-30A9-47BF-9BC0-7370F11C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6AB198-14F3-49DC-AB85-D81B65C0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F22AC-B842-497B-AF66-CEDE6DBC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C7C76F-FDE4-485B-86D8-26905865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61642E-7A06-4976-8BBE-9CAD25FE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53CC2-7F99-46BA-B006-A2DBE1C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8B7321-6BCD-4552-B182-34E6340C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67F5-8DBB-44B9-B887-CD70EA72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0EDF00-63BB-47D6-AECE-095102CD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C30E9-01D6-47F1-861B-D1307BE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36811-4A73-4E50-9293-7D743874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0613B8-0BA7-4377-A118-3963B1F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04D995-5344-44E4-918E-07A219C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1275BE-EB31-4782-9573-689ECE4A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E083CD-707F-42B2-8203-8F31E975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6E9894-7532-49A7-8561-97C86336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786E62-AA08-4B64-867D-CF4E7F69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F371ED-4A7E-494D-A73E-CC2A35BC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0C69-13A1-4727-8E0E-B9ACC3BE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D758EC-BE0E-485C-B4EB-BED38385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AA5C07-F041-4CCE-A669-AD5D6583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0EC5B1-FA72-475D-A5E7-12AE566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AB68AA-0567-46C8-B662-BB4969C9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9AA79-A104-4C83-B14A-3B3C03B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235A63-B319-4573-83B1-837D7C30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CC57D4-5998-4553-A3CA-1D1DE422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C61DA-0FB5-4AF5-BCE6-AF54E3FA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3B6AB5-3E26-4715-A5ED-3A72897A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58795E-3A87-43C9-A9B3-D4AA9456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3D60-5BD1-441B-AA4F-0F33A20E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49C6A2-DFF3-4839-AF96-59A01F5D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5AAAFD-8BD1-4E9E-9113-A6F83324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24CAF8-9C52-477C-9ABA-AF4825EC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303A59-214B-43EA-9E10-E4A16183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751F57-920D-4BD9-9245-ED278690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54C830-5594-4EAA-93F2-8F2B6057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62B76C-C7DC-4E26-A830-E858BD72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DE7198-D1D1-4F16-AEF9-D10376F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781E99-C3DF-4D6F-9719-46295FB3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2F113B-01BB-4C3B-874B-EAC359C3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A62-22C7-4034-9A7B-5107B9AB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0118-9710-464D-86B1-C1C3169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7B2F74-861E-4287-8DB3-7026D663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FA2F1B-E8B5-4065-A81A-95814013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607BF0-95BD-4E52-B795-DEB068C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5C9C50-4195-4459-BF71-DD84F860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D51FA0-1B8D-46E5-AA17-AB2350C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C2372F-4854-4E77-8B5D-929ABCDE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0EEFDD-BB0B-438E-A500-F2DC224E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5DE2FE-C86A-441E-9995-57B60369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CFBC4A-5FB3-4A7C-A86D-ED668325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092F27-97B1-481D-B19B-6C8E2DA0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9CEC-4BA6-4DB2-BF5A-D4151321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F0CC46-F2C1-4DF5-84FE-F1468EF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C3B49D-EB5B-403A-9109-F4492BE9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A7BA27-406E-4A1D-AC63-6AE763A6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926EFF-4B85-4B20-A074-D26E5652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4F4881-C84C-4987-8AC9-180199D4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1C2793-F3F2-4682-9DAC-3448B5E5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33C678-DD1E-44B2-8202-DF5BD39D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871224-BCED-424F-BF29-D47F96CC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04C439-2DA5-4C54-BF64-487C32F6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FA7439-7ABB-4A79-90F9-D950A2D4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2DC2-F95B-4F2F-84D7-64598477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9ADE7E-1E1E-4C5D-9FDB-7A62215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615B97-D6D6-4951-BF39-4E53CE0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11AF03-C48D-4515-AE3D-CAD50F14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4C735E-F6F6-4ADC-8BE1-D390F70D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E1C654-81DA-4818-90F6-317C8CBF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143C80-E7B8-4EF9-8894-51F83CAC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AF8067-EDFE-47A7-9060-228A5CB0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B722F7-BC97-4007-97E9-0DB54EF1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3C1F89-79C8-4409-85A0-07A23EC2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AB2854-43FF-405E-AD47-4CEEA594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48EC-FF90-4695-B35F-E5EADFC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88EEFC-308E-41E8-AA0C-E3E2C183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79E62C-74E3-414A-88EA-94A1825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E6249F-D26A-4453-81DF-0C475C1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5DEFCA-0DB1-4F60-B3AF-10D8CC94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969EEB-A96E-4F47-8A63-7A1985A7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D31FC1-31C8-4083-8B9B-E2509845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4C7B7F-E0A4-4980-A400-A0D38C18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15454F-59B9-43C2-AEF9-FCA0288C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1C8B08-8F87-4D63-8F67-4EE13588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169159-BC6C-4E02-A15E-D07194B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F96E-BCD3-45D5-AF64-5496D1A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042950-0AFA-4E26-8F0F-1CD05774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D9BD5B-D092-430E-87C4-CD01D52E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E60B2B-6DD3-44D1-91E8-2116E756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71F42F-7709-4C6E-86AE-A26ABC62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083DA8-D9AC-4D59-BA6D-4E51E7C3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DDA22E-746D-4509-B0C3-0E6C8F2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520055-1B75-4A49-8DD4-149C64EE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846417-9DC7-468E-ACBC-89D29D05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64A6E3-9415-411C-B458-FA794A49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0A23EF-EC20-44A4-B44F-558EEA7B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7AAC-D0C2-49B0-A4AF-546EFDA2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734082-E236-453F-9154-0CD4301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9C303D-7EA2-482B-9463-A84B7BD6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83D476-C6E9-4063-B1FF-86E2DF4A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15E9EC-1A6D-4BC7-9E8F-140BB668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763848-ECA1-43D9-A694-114989FA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356092-93D3-4851-AEB7-F107947D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B35052-CB05-4D5F-BDBA-8DEB7987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F0C6E0-9F98-4954-A212-BF1B979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F1256F-9662-4171-AF40-FC34B39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03BE8E-ECA5-4819-A843-154267A0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44EF-62BA-42A8-914B-3D8353B2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BDAE71-A7DA-4F62-845C-468C38D5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AD7511-CA05-4B00-AEA4-139B15E7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446033-4621-4D91-90E9-6CFEAA8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4D6526-A391-494C-8C96-A8F9E87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947DD0-22F1-4885-9164-3D4D88F0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F49C08-5D3D-4B8B-B7CE-097BA97B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D246BA-47C1-4C8E-8FE8-6B165F05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D5023E-6E21-4A33-8F9F-BD94228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E65C2C-44F1-4863-8AA8-E9A2801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A5A09D-EC60-4203-8E69-AA23B4C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5A55-EA3F-4A8A-9FB4-DD6BE312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2BC7D7-BE3B-4EDD-992F-78EC6361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A71FCA-6677-43A8-B168-BCFB4C5F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DD0837-E786-40FB-9979-4C360E79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0064-59A3-4274-B0C4-AE62601E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F4EE-227D-4175-8DD3-8B64F89E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D20-2C82-4487-A195-19055CC0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F59C-2B98-4B96-A6A4-BD8F3785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9A3B8-9D78-4B51-AC0E-C1BA1F07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3D5F-8170-4D6A-A86D-32965A83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88375-27EC-420A-AF2A-0E5E5F2A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0B66-F8CD-4A2A-BA6E-1188F43A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4A2F-E156-4A45-9417-1FA2C5A2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FC5D-2955-4AFA-A6F2-01E0EEFF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7BBF-775C-4C97-BD69-3E112F8C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D109-1D81-4130-A515-24AEC1B4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F7976-5EF1-4AB3-9697-EED819E4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289-DCA1-419E-9DF3-B56DE03A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593E7-4697-4AEC-8121-F257DA3E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79BB1-D361-44DC-B0F1-E69ACDB2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9C65-BF28-424D-9417-C975EFF4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22952-4406-49F8-AF89-795EB281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295AD-9F51-4020-93C6-EC3A81E7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EAB0-643C-45A3-B7E2-EA7B2FC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F746-9D85-46F5-8792-8532AF9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9F59-4F44-4129-B20B-0C7DCDC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B0B1-D640-4C8C-81F3-D8587556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7E7E-CC6F-4E2A-B2A5-0C868013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EAF-DFD2-4EBC-87A4-7FF2D09B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730CE-8C54-44EB-8478-296C65AC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A2C8D-B6FA-4F7F-B955-DC84EB1F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CDD1-F4F6-4F64-9402-F638B2AB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118ED-4527-4EFD-968F-875D564F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0CB4-ABDF-48AE-BE83-C7B99F86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B1C0-09CB-4E0F-8FF8-64A3F664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EDDFC-872A-4406-9A2C-CE2D723D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DD7F7-0509-4B79-B32E-138DF08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46D5-E4F3-412E-A35E-B8DDE7B3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43C6-1E5B-47FF-B319-A0ED3135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D45-6C22-4DA2-8739-AB90D5EC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D6D97-951A-49EA-AB0B-D7F5C43D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E9B4F-C09E-4E18-A4A7-3823F2C7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788D0-07BD-4E0E-9237-16A73D29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66A0E-54BD-4020-96E2-5EF2CDFC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CA726-E6CF-4A50-869A-6F0ACD70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45A1B-12AA-46DC-9CB2-119F1FE6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742BA-46FB-47B4-BD6B-95D088F6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61897-1A86-4895-8CAA-EBB782F8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F6359-AAC1-4CA7-AF03-BEC5A03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9046A-4B2E-4945-AEBA-77A705B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2E5-A686-40D9-9C0A-8D74ABAB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963F-E481-4253-A8BA-FAE6502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148BC-82A9-42DE-B1BC-7CC49B0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9CD5F-0202-47E4-AD9C-3929DE6C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4D4C5-0F38-4F25-9284-BDCC06ED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90F22-7F0F-439F-98ED-6B74FFAB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905F5-B494-41D2-B4F5-8F527BC0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583C7-FD73-4536-98F6-628FFB4A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1256B-830B-4722-9ED2-8E3C3CEC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3F269-D894-41FC-A86A-8D77315D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BFD06-F950-4402-A698-E8B57570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F0A-A288-46B8-99B8-2B86E8FE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31ED-9EBF-4427-8B5D-9948B6D5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96590-575C-439A-B63F-00ED8686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D2CA9-0386-4BE7-BD1C-54E8A7F3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D7A67-4EB9-4973-8A18-255D1ECC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80634-B7C3-4418-8820-3E358031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FC79E-6910-453B-8DF3-E22F44FA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6EE0-3CA3-4F73-A42C-A3AE568B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84DDB-7B80-4E79-81F0-D12ADEBC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B6584-6947-47B8-A9AE-A0A1F8BC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4F400-185A-4250-9C57-BA12FCFF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06BF-FBB0-4A67-9D2B-01A6C4E2E9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D61F-7837-4F56-8A25-25C743015D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D6FA-19EC-42FE-B84C-84EBC004D9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59BC-26CF-40FF-A154-109B32203C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E61A-2FE2-476F-8B16-6C8870D9FA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FDA9-74C1-44EF-9802-C5E3D4854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8EA-E305-4BBD-9F1F-2575DEE174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02AC-3CD3-40E2-9777-709A6EC37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518A-F505-4530-98C9-2796F2A1D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62A8-0A10-4086-B66C-2D32B7DA97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C93C-DB74-4279-AAD2-691CFA4D94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A6DE-4C38-40C9-B3F0-277679C2E4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BAEC-3D42-4B0A-8716-D0DE36887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5E7C-F55F-4FAE-BD5D-2D935E61B6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502E-ACDB-4FDB-B966-F40C3CE16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1865-73EB-4BD9-8E97-A704DF261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3ED-DF4B-4094-B7BD-FEF595D93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179-F5B9-418A-BE1E-6B5F5E608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2956-CEEF-4095-B2F6-05F068EE42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CCD-9D28-4F9E-B15B-E76E1FC2F3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1EA4-8B17-459D-B341-479CB56CBE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D067-BA03-4DB6-A4EB-16FD8AF856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C1AE-55D4-445C-91BF-EAA9201C8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91F4-E656-4A44-986C-36CB1ABAC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723C-C440-4F42-96B9-888B173E0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CCEE-EE67-4E55-93A3-A945FC95A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6CE5-1F07-454F-A2B8-03FE25A33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CC2E-37C2-47EE-9932-C430E90257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1CE9-D1D1-4649-B06E-5C4E2AF39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8F3-E73A-458C-BB90-A38E90CAA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7F1E-4509-4B1F-AC33-727121AED9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34BD-4F51-4EAE-938A-746739C3A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E15E-9C01-4A05-9583-018AC9419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1B0-D965-4959-8CAF-FDFB5D8C8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B9E1-8DE2-4C4B-B3F0-7CFB56A022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A60A-21DD-4D47-AE16-C3007EB12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0353-CD51-4479-ABF4-079483B6D1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8053-4A5F-4E46-94AE-0209464F0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2D5D-A0ED-4889-9566-4C2C18C776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90D6-A135-4059-8F0F-86278FCDBF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72B1-481B-4A53-862A-EB1A87BA9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382-1B3D-47AE-B7B6-734DF8359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EFEB-798A-4BFB-BAF2-53FD4E41E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05F7-6F12-4871-A8F5-051ABCC8D7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5A04-8296-4556-9811-718F568FD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B7A-FF10-4323-AC84-FF96FEBAB0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219F-9434-48CD-B3C6-472F71FB18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9AEF-704D-40D2-AE27-B1694CA264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E477-B25C-46C0-80F4-F0267FBECB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E981-B94C-47BA-AC5C-ECE53477B8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2352600" cy="6667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5848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673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6840" cy="43243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6738"/>
          <p:cNvSpPr/>
          <p:nvPr/>
        </p:nvSpPr>
        <p:spPr>
          <a:xfrm>
            <a:off x="5307120" y="2860560"/>
            <a:ext cx="3225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6739"/>
          <p:cNvSpPr/>
          <p:nvPr/>
        </p:nvSpPr>
        <p:spPr>
          <a:xfrm>
            <a:off x="1446120" y="3343320"/>
            <a:ext cx="55022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6740"/>
          <p:cNvSpPr/>
          <p:nvPr/>
        </p:nvSpPr>
        <p:spPr>
          <a:xfrm>
            <a:off x="2462040" y="4295880"/>
            <a:ext cx="74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6741"/>
          <p:cNvSpPr/>
          <p:nvPr/>
        </p:nvSpPr>
        <p:spPr>
          <a:xfrm>
            <a:off x="8012160" y="4778280"/>
            <a:ext cx="7412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6742"/>
          <p:cNvSpPr/>
          <p:nvPr/>
        </p:nvSpPr>
        <p:spPr>
          <a:xfrm>
            <a:off x="1459080" y="5273640"/>
            <a:ext cx="4625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571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191440" cy="323856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5714"/>
          <p:cNvSpPr/>
          <p:nvPr/>
        </p:nvSpPr>
        <p:spPr>
          <a:xfrm>
            <a:off x="1636560" y="1996920"/>
            <a:ext cx="624852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5715"/>
          <p:cNvSpPr/>
          <p:nvPr/>
        </p:nvSpPr>
        <p:spPr>
          <a:xfrm>
            <a:off x="7667640" y="2492280"/>
            <a:ext cx="5126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72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3665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48880" cy="224784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3666"/>
          <p:cNvSpPr/>
          <p:nvPr/>
        </p:nvSpPr>
        <p:spPr>
          <a:xfrm>
            <a:off x="5510160" y="2073240"/>
            <a:ext cx="30225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7"/>
          <p:cNvSpPr/>
          <p:nvPr/>
        </p:nvSpPr>
        <p:spPr>
          <a:xfrm>
            <a:off x="1611360" y="2556000"/>
            <a:ext cx="657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8"/>
          <p:cNvSpPr/>
          <p:nvPr/>
        </p:nvSpPr>
        <p:spPr>
          <a:xfrm>
            <a:off x="6284880" y="3025800"/>
            <a:ext cx="13114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69"/>
          <p:cNvSpPr/>
          <p:nvPr/>
        </p:nvSpPr>
        <p:spPr>
          <a:xfrm>
            <a:off x="4519440" y="3521160"/>
            <a:ext cx="16369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414360" y="1704960"/>
            <a:ext cx="8315280" cy="344808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2843280" y="2708280"/>
            <a:ext cx="1441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2639880" y="3216240"/>
            <a:ext cx="14414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6792840" y="3203640"/>
            <a:ext cx="15242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3808440" y="4168800"/>
            <a:ext cx="19875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6462720" y="4168800"/>
            <a:ext cx="22129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887400" y="4664160"/>
            <a:ext cx="8049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2259000" y="4676760"/>
            <a:ext cx="2168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3905" descr=""/>
          <p:cNvPicPr/>
          <p:nvPr/>
        </p:nvPicPr>
        <p:blipFill>
          <a:blip r:embed="rId1"/>
          <a:stretch/>
        </p:blipFill>
        <p:spPr>
          <a:xfrm>
            <a:off x="433440" y="1623960"/>
            <a:ext cx="8277120" cy="361008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3906"/>
          <p:cNvSpPr/>
          <p:nvPr/>
        </p:nvSpPr>
        <p:spPr>
          <a:xfrm>
            <a:off x="7846920" y="3813120"/>
            <a:ext cx="513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447840" y="1467000"/>
            <a:ext cx="8248320" cy="39240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6716880" y="1514520"/>
            <a:ext cx="18158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59"/>
          <p:cNvSpPr/>
          <p:nvPr/>
        </p:nvSpPr>
        <p:spPr>
          <a:xfrm>
            <a:off x="1484280" y="2009880"/>
            <a:ext cx="18162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1860"/>
          <p:cNvSpPr/>
          <p:nvPr/>
        </p:nvSpPr>
        <p:spPr>
          <a:xfrm>
            <a:off x="6564240" y="2467080"/>
            <a:ext cx="8161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1861"/>
          <p:cNvSpPr/>
          <p:nvPr/>
        </p:nvSpPr>
        <p:spPr>
          <a:xfrm>
            <a:off x="2843280" y="4879800"/>
            <a:ext cx="151272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0833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05920" cy="48769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0834"/>
          <p:cNvSpPr/>
          <p:nvPr/>
        </p:nvSpPr>
        <p:spPr>
          <a:xfrm>
            <a:off x="7821720" y="3317760"/>
            <a:ext cx="5126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9809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96200" cy="246708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19810" descr=""/>
          <p:cNvPicPr/>
          <p:nvPr/>
        </p:nvPicPr>
        <p:blipFill>
          <a:blip r:embed="rId2"/>
          <a:stretch/>
        </p:blipFill>
        <p:spPr>
          <a:xfrm>
            <a:off x="730080" y="3564000"/>
            <a:ext cx="7782120" cy="9428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9811"/>
          <p:cNvSpPr/>
          <p:nvPr/>
        </p:nvSpPr>
        <p:spPr>
          <a:xfrm>
            <a:off x="7812000" y="1628640"/>
            <a:ext cx="5130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5" descr=""/>
          <p:cNvPicPr/>
          <p:nvPr/>
        </p:nvPicPr>
        <p:blipFill>
          <a:blip r:embed="rId1"/>
          <a:stretch/>
        </p:blipFill>
        <p:spPr>
          <a:xfrm>
            <a:off x="433440" y="1695600"/>
            <a:ext cx="8277120" cy="346680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8786"/>
          <p:cNvSpPr/>
          <p:nvPr/>
        </p:nvSpPr>
        <p:spPr>
          <a:xfrm>
            <a:off x="7812000" y="2781360"/>
            <a:ext cx="513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7761" descr=""/>
          <p:cNvPicPr/>
          <p:nvPr/>
        </p:nvPicPr>
        <p:blipFill>
          <a:blip r:embed="rId1"/>
          <a:stretch/>
        </p:blipFill>
        <p:spPr>
          <a:xfrm>
            <a:off x="466560" y="1776240"/>
            <a:ext cx="8210880" cy="33055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7762"/>
          <p:cNvSpPr/>
          <p:nvPr/>
        </p:nvSpPr>
        <p:spPr>
          <a:xfrm>
            <a:off x="7740720" y="2781360"/>
            <a:ext cx="512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7:55:13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